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75015"/>
        <c:axId val="6693633"/>
      </c:barChart>
      <c:catAx>
        <c:axId val="19375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3633"/>
        <c:crosses val="autoZero"/>
        <c:auto val="1"/>
        <c:lblAlgn val="ctr"/>
        <c:lblOffset val="100"/>
        <c:noMultiLvlLbl val="0"/>
      </c:catAx>
      <c:valAx>
        <c:axId val="6693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75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653-05C5-45AD-9D9A-3FCD8804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8AB-8533-4A1D-B0EF-C6D78B7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8E4-61BD-4DC8-9A36-39D9A297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217-2C76-427D-BE05-8EFFFFE3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ECB-8FAA-4FC2-BF77-19F7B6A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AD5-4ACA-4CD8-AA2D-9065B33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FA2-88FC-41A3-BB1F-D6149A81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EFF-0B4C-4863-AA2A-1F9C43F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F34-8947-4649-8E70-00FFAD00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BB1-7EB5-495F-B32D-1A4758D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F64-8A51-4C58-A0FC-4733D01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DB2-E27D-49E2-B232-084CF28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2656-4C2C-4621-AEC8-75EA429562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